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james@cambridgescience.co.uk?subject=SEMTA%20Applied%20Science%20Resource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56000" y="2637000"/>
            <a:ext cx="4464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4932360" y="1700280"/>
            <a:ext cx="3384720" cy="3384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700280"/>
            <a:ext cx="3384360" cy="3384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9840" y="26028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ll best fit lines as good as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00000" y="98100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ets of results may show the same pattern but some sets of results look ‘better’ than oth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547280" y="2133720"/>
            <a:ext cx="1943280" cy="2518920"/>
            <a:chOff x="1547280" y="2133720"/>
            <a:chExt cx="1943280" cy="2518920"/>
          </a:xfrm>
        </p:grpSpPr>
        <p:grpSp>
          <p:nvGrpSpPr>
            <p:cNvPr id="454" name=""/>
            <p:cNvGrpSpPr/>
            <p:nvPr/>
          </p:nvGrpSpPr>
          <p:grpSpPr>
            <a:xfrm>
              <a:off x="2482200" y="3286080"/>
              <a:ext cx="144720" cy="142560"/>
              <a:chOff x="2482200" y="3286080"/>
              <a:chExt cx="144720" cy="142560"/>
            </a:xfrm>
          </p:grpSpPr>
          <p:sp>
            <p:nvSpPr>
              <p:cNvPr id="455" name=""/>
              <p:cNvSpPr/>
              <p:nvPr/>
            </p:nvSpPr>
            <p:spPr>
              <a:xfrm flipH="1">
                <a:off x="2482200" y="328608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82560" y="328608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2770920" y="2927160"/>
              <a:ext cx="144720" cy="142560"/>
              <a:chOff x="2770920" y="2927160"/>
              <a:chExt cx="144720" cy="142560"/>
            </a:xfrm>
          </p:grpSpPr>
          <p:sp>
            <p:nvSpPr>
              <p:cNvPr id="458" name=""/>
              <p:cNvSpPr/>
              <p:nvPr/>
            </p:nvSpPr>
            <p:spPr>
              <a:xfrm flipH="1">
                <a:off x="2770920" y="292716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771280" y="292716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058560" y="2566800"/>
              <a:ext cx="144720" cy="142560"/>
              <a:chOff x="3058560" y="2566800"/>
              <a:chExt cx="144720" cy="142560"/>
            </a:xfrm>
          </p:grpSpPr>
          <p:sp>
            <p:nvSpPr>
              <p:cNvPr id="461" name=""/>
              <p:cNvSpPr/>
              <p:nvPr/>
            </p:nvSpPr>
            <p:spPr>
              <a:xfrm flipH="1">
                <a:off x="3058560" y="256680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058920" y="256680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2194920" y="3644640"/>
              <a:ext cx="144720" cy="142560"/>
              <a:chOff x="2194920" y="3644640"/>
              <a:chExt cx="144720" cy="142560"/>
            </a:xfrm>
          </p:grpSpPr>
          <p:sp>
            <p:nvSpPr>
              <p:cNvPr id="464" name=""/>
              <p:cNvSpPr/>
              <p:nvPr/>
            </p:nvSpPr>
            <p:spPr>
              <a:xfrm flipH="1">
                <a:off x="2194920" y="364464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195280" y="364464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1547280" y="4510080"/>
              <a:ext cx="144720" cy="142560"/>
              <a:chOff x="1547280" y="4510080"/>
              <a:chExt cx="144720" cy="142560"/>
            </a:xfrm>
          </p:grpSpPr>
          <p:sp>
            <p:nvSpPr>
              <p:cNvPr id="467" name=""/>
              <p:cNvSpPr/>
              <p:nvPr/>
            </p:nvSpPr>
            <p:spPr>
              <a:xfrm flipH="1">
                <a:off x="1547280" y="451008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547640" y="451008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762920" y="4221000"/>
              <a:ext cx="144720" cy="142560"/>
              <a:chOff x="1762920" y="4221000"/>
              <a:chExt cx="144720" cy="142560"/>
            </a:xfrm>
          </p:grpSpPr>
          <p:sp>
            <p:nvSpPr>
              <p:cNvPr id="470" name=""/>
              <p:cNvSpPr/>
              <p:nvPr/>
            </p:nvSpPr>
            <p:spPr>
              <a:xfrm flipH="1">
                <a:off x="1762920" y="422100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763280" y="422100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345840" y="2133720"/>
              <a:ext cx="144720" cy="142560"/>
              <a:chOff x="3345840" y="2133720"/>
              <a:chExt cx="144720" cy="142560"/>
            </a:xfrm>
          </p:grpSpPr>
          <p:sp>
            <p:nvSpPr>
              <p:cNvPr id="473" name=""/>
              <p:cNvSpPr/>
              <p:nvPr/>
            </p:nvSpPr>
            <p:spPr>
              <a:xfrm flipH="1">
                <a:off x="3345840" y="213372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346200" y="213372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1978920" y="3933720"/>
              <a:ext cx="144720" cy="142560"/>
              <a:chOff x="1978920" y="3933720"/>
              <a:chExt cx="144720" cy="142560"/>
            </a:xfrm>
          </p:grpSpPr>
          <p:sp>
            <p:nvSpPr>
              <p:cNvPr id="476" name=""/>
              <p:cNvSpPr/>
              <p:nvPr/>
            </p:nvSpPr>
            <p:spPr>
              <a:xfrm flipH="1">
                <a:off x="1978920" y="393372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979280" y="393372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1403280" y="1844640"/>
            <a:ext cx="2448000" cy="3025800"/>
            <a:chOff x="1403280" y="1844640"/>
            <a:chExt cx="2448000" cy="3025800"/>
          </a:xfrm>
        </p:grpSpPr>
        <p:sp>
          <p:nvSpPr>
            <p:cNvPr id="479" name=""/>
            <p:cNvSpPr/>
            <p:nvPr/>
          </p:nvSpPr>
          <p:spPr>
            <a:xfrm>
              <a:off x="1403280" y="1844640"/>
              <a:ext cx="0" cy="302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03280" y="4870440"/>
              <a:ext cx="244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364000" y="1844640"/>
            <a:ext cx="2447640" cy="3025800"/>
            <a:chOff x="5364000" y="1844640"/>
            <a:chExt cx="2447640" cy="3025800"/>
          </a:xfrm>
        </p:grpSpPr>
        <p:sp>
          <p:nvSpPr>
            <p:cNvPr id="482" name=""/>
            <p:cNvSpPr/>
            <p:nvPr/>
          </p:nvSpPr>
          <p:spPr>
            <a:xfrm>
              <a:off x="5364000" y="1844640"/>
              <a:ext cx="0" cy="302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64000" y="4868640"/>
              <a:ext cx="24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436720" y="2495520"/>
            <a:ext cx="1943640" cy="2230200"/>
            <a:chOff x="5436720" y="2495520"/>
            <a:chExt cx="1943640" cy="2230200"/>
          </a:xfrm>
        </p:grpSpPr>
        <p:grpSp>
          <p:nvGrpSpPr>
            <p:cNvPr id="485" name=""/>
            <p:cNvGrpSpPr/>
            <p:nvPr/>
          </p:nvGrpSpPr>
          <p:grpSpPr>
            <a:xfrm>
              <a:off x="6229080" y="3214440"/>
              <a:ext cx="144720" cy="142920"/>
              <a:chOff x="6229080" y="3214440"/>
              <a:chExt cx="144720" cy="142920"/>
            </a:xfrm>
          </p:grpSpPr>
          <p:sp>
            <p:nvSpPr>
              <p:cNvPr id="486" name=""/>
              <p:cNvSpPr/>
              <p:nvPr/>
            </p:nvSpPr>
            <p:spPr>
              <a:xfrm flipH="1">
                <a:off x="6229080" y="321444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29440" y="321444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6659280" y="3358800"/>
              <a:ext cx="144720" cy="142920"/>
              <a:chOff x="6659280" y="3358800"/>
              <a:chExt cx="144720" cy="142920"/>
            </a:xfrm>
          </p:grpSpPr>
          <p:sp>
            <p:nvSpPr>
              <p:cNvPr id="489" name=""/>
              <p:cNvSpPr/>
              <p:nvPr/>
            </p:nvSpPr>
            <p:spPr>
              <a:xfrm flipH="1">
                <a:off x="6659280" y="33588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59640" y="33588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6732360" y="2639880"/>
              <a:ext cx="144720" cy="142920"/>
              <a:chOff x="6732360" y="2639880"/>
              <a:chExt cx="144720" cy="142920"/>
            </a:xfrm>
          </p:grpSpPr>
          <p:sp>
            <p:nvSpPr>
              <p:cNvPr id="492" name=""/>
              <p:cNvSpPr/>
              <p:nvPr/>
            </p:nvSpPr>
            <p:spPr>
              <a:xfrm flipH="1">
                <a:off x="6732360" y="263988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32720" y="263988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6227280" y="3792240"/>
              <a:ext cx="144720" cy="142920"/>
              <a:chOff x="6227280" y="3792240"/>
              <a:chExt cx="144720" cy="142920"/>
            </a:xfrm>
          </p:grpSpPr>
          <p:sp>
            <p:nvSpPr>
              <p:cNvPr id="495" name=""/>
              <p:cNvSpPr/>
              <p:nvPr/>
            </p:nvSpPr>
            <p:spPr>
              <a:xfrm flipH="1">
                <a:off x="6227280" y="379224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227640" y="379224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5436720" y="4582800"/>
              <a:ext cx="144720" cy="142920"/>
              <a:chOff x="5436720" y="4582800"/>
              <a:chExt cx="144720" cy="14292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5436720" y="45828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437080" y="45828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5579640" y="4151160"/>
              <a:ext cx="144720" cy="142920"/>
              <a:chOff x="5579640" y="4151160"/>
              <a:chExt cx="144720" cy="142920"/>
            </a:xfrm>
          </p:grpSpPr>
          <p:sp>
            <p:nvSpPr>
              <p:cNvPr id="501" name=""/>
              <p:cNvSpPr/>
              <p:nvPr/>
            </p:nvSpPr>
            <p:spPr>
              <a:xfrm flipH="1">
                <a:off x="5579640" y="415116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80000" y="415116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7235640" y="2495520"/>
              <a:ext cx="144720" cy="142560"/>
              <a:chOff x="7235640" y="2495520"/>
              <a:chExt cx="144720" cy="142560"/>
            </a:xfrm>
          </p:grpSpPr>
          <p:sp>
            <p:nvSpPr>
              <p:cNvPr id="504" name=""/>
              <p:cNvSpPr/>
              <p:nvPr/>
            </p:nvSpPr>
            <p:spPr>
              <a:xfrm flipH="1">
                <a:off x="7235640" y="249552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236000" y="249552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6011640" y="4224240"/>
              <a:ext cx="144720" cy="142920"/>
              <a:chOff x="6011640" y="4224240"/>
              <a:chExt cx="144720" cy="142920"/>
            </a:xfrm>
          </p:grpSpPr>
          <p:sp>
            <p:nvSpPr>
              <p:cNvPr id="507" name=""/>
              <p:cNvSpPr/>
              <p:nvPr/>
            </p:nvSpPr>
            <p:spPr>
              <a:xfrm flipH="1">
                <a:off x="6011640" y="422424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12000" y="422424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9" name=""/>
          <p:cNvSpPr/>
          <p:nvPr/>
        </p:nvSpPr>
        <p:spPr>
          <a:xfrm flipV="1">
            <a:off x="1403280" y="1989000"/>
            <a:ext cx="2232000" cy="288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364000" y="1989000"/>
            <a:ext cx="2232360" cy="288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42920" y="1773360"/>
            <a:ext cx="10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95280" y="558972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oints are all close to the line of best fit then we say that they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763640" y="514980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oth cases the best fit line is exactly the s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395280" y="6021360"/>
            <a:ext cx="84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s in both graphs show the same pattern but the results on the first graph are mo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n the results in the 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364000" y="1989000"/>
            <a:ext cx="2232360" cy="288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3.7037E-006 L -0.43316 3.7037E-006 E">
                                      <p:cBhvr>
                                        <p:cTn id="505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767640" y="6093000"/>
            <a:ext cx="237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ten b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James de W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116000" y="260280"/>
            <a:ext cx="690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oint of drawing a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55640" y="1268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it is easy to see patterns in a set of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755640" y="2421000"/>
          <a:ext cx="2952360" cy="3531960"/>
        </p:xfrm>
        <a:graphic>
          <a:graphicData uri="http://schemas.openxmlformats.org/drawingml/2006/table">
            <a:tbl>
              <a:tblPr/>
              <a:tblGrid>
                <a:gridCol w="1476000"/>
                <a:gridCol w="1476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 (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4643280" y="1341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it is not as ea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716360" y="2421000"/>
          <a:ext cx="3168720" cy="3417840"/>
        </p:xfrm>
        <a:graphic>
          <a:graphicData uri="http://schemas.openxmlformats.org/drawingml/2006/table">
            <a:tbl>
              <a:tblPr/>
              <a:tblGrid>
                <a:gridCol w="1005120"/>
                <a:gridCol w="2163600"/>
              </a:tblGrid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1739880"/>
          <a:ext cx="3393720" cy="3417840"/>
        </p:xfrm>
        <a:graphic>
          <a:graphicData uri="http://schemas.openxmlformats.org/drawingml/2006/table">
            <a:tbl>
              <a:tblPr/>
              <a:tblGrid>
                <a:gridCol w="1076400"/>
                <a:gridCol w="2317320"/>
              </a:tblGrid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24000" y="537372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hard to see a pattern in this set of results but if you draw a graph then it is much easier to see if there is a pat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11389" r="0" b="11389"/>
          <a:stretch/>
        </p:blipFill>
        <p:spPr>
          <a:xfrm>
            <a:off x="4284720" y="981000"/>
            <a:ext cx="5688000" cy="439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5003640" y="1339560"/>
            <a:ext cx="2953080" cy="352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56674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 graph it is very easy to see a pattern that is not clear from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10764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erature gra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3120" y="260280"/>
            <a:ext cx="52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help us se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981000"/>
            <a:ext cx="4248000" cy="4392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12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a pattern in these resul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987640" y="3860640"/>
            <a:ext cx="576108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492280"/>
            <a:ext cx="576108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989000"/>
            <a:ext cx="3024000" cy="4248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99280" y="2133720"/>
            <a:ext cx="2736720" cy="3600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0920" y="2133720"/>
            <a:ext cx="2736720" cy="3600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3480" y="260280"/>
            <a:ext cx="68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ing the right axes for your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0731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quite tricky and will always depend upon the results you have to plot. Three points to try and consider when working out the size of a graph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7440" y="2513160"/>
            <a:ext cx="284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and make sure the graph fills the at least half th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635280" y="2565360"/>
            <a:ext cx="2447640" cy="2664000"/>
            <a:chOff x="3635280" y="2565360"/>
            <a:chExt cx="2447640" cy="2664000"/>
          </a:xfrm>
        </p:grpSpPr>
        <p:sp>
          <p:nvSpPr>
            <p:cNvPr id="62" name=""/>
            <p:cNvSpPr/>
            <p:nvPr/>
          </p:nvSpPr>
          <p:spPr>
            <a:xfrm>
              <a:off x="3635280" y="2565360"/>
              <a:ext cx="0" cy="266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35280" y="5229360"/>
              <a:ext cx="24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52720" y="4869000"/>
              <a:ext cx="71280" cy="727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68360" y="4653000"/>
              <a:ext cx="7164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68360" y="4869000"/>
              <a:ext cx="71640" cy="727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68360" y="4437000"/>
              <a:ext cx="7164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84360" y="4581360"/>
              <a:ext cx="7164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84360" y="4365720"/>
              <a:ext cx="7164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79640" y="5013360"/>
              <a:ext cx="7128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372360" y="2565360"/>
            <a:ext cx="2447640" cy="2664000"/>
            <a:chOff x="6372360" y="2565360"/>
            <a:chExt cx="2447640" cy="2664000"/>
          </a:xfrm>
        </p:grpSpPr>
        <p:sp>
          <p:nvSpPr>
            <p:cNvPr id="72" name=""/>
            <p:cNvSpPr/>
            <p:nvPr/>
          </p:nvSpPr>
          <p:spPr>
            <a:xfrm>
              <a:off x="6372360" y="2565360"/>
              <a:ext cx="0" cy="266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72360" y="5229360"/>
              <a:ext cx="24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9440" y="4869000"/>
              <a:ext cx="70920" cy="727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000" y="4365720"/>
              <a:ext cx="7128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75280" y="4581360"/>
              <a:ext cx="7092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80000" y="3860640"/>
              <a:ext cx="7128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83280" y="3716280"/>
              <a:ext cx="70920" cy="73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40360" y="3357720"/>
              <a:ext cx="71280" cy="727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43640" y="2997360"/>
              <a:ext cx="70920" cy="727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875640" y="2779560"/>
            <a:ext cx="431640" cy="432000"/>
            <a:chOff x="6875640" y="2779560"/>
            <a:chExt cx="431640" cy="432000"/>
          </a:xfrm>
        </p:grpSpPr>
        <p:sp>
          <p:nvSpPr>
            <p:cNvPr id="82" name=""/>
            <p:cNvSpPr/>
            <p:nvPr/>
          </p:nvSpPr>
          <p:spPr>
            <a:xfrm>
              <a:off x="6875640" y="2779560"/>
              <a:ext cx="43164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34320" y="3006000"/>
              <a:ext cx="314280" cy="123840"/>
            </a:xfrm>
            <a:custGeom>
              <a:avLst/>
              <a:gdLst/>
              <a:ahLst/>
              <a:rect l="l" t="t" r="r" b="b"/>
              <a:pathLst>
                <a:path w="998" h="507">
                  <a:moveTo>
                    <a:pt x="0" y="0"/>
                  </a:moveTo>
                  <a:cubicBezTo>
                    <a:pt x="166" y="245"/>
                    <a:pt x="333" y="491"/>
                    <a:pt x="499" y="499"/>
                  </a:cubicBezTo>
                  <a:cubicBezTo>
                    <a:pt x="665" y="507"/>
                    <a:pt x="831" y="276"/>
                    <a:pt x="998" y="46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93000" y="2902680"/>
              <a:ext cx="58680" cy="6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30880" y="2902680"/>
              <a:ext cx="58680" cy="6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138560" y="2852640"/>
            <a:ext cx="432000" cy="432000"/>
            <a:chOff x="4138560" y="2852640"/>
            <a:chExt cx="432000" cy="432000"/>
          </a:xfrm>
        </p:grpSpPr>
        <p:sp>
          <p:nvSpPr>
            <p:cNvPr id="87" name=""/>
            <p:cNvSpPr/>
            <p:nvPr/>
          </p:nvSpPr>
          <p:spPr>
            <a:xfrm>
              <a:off x="4138560" y="2852640"/>
              <a:ext cx="43200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217400" y="3098160"/>
              <a:ext cx="274680" cy="82440"/>
            </a:xfrm>
            <a:custGeom>
              <a:avLst/>
              <a:gdLst/>
              <a:ahLst/>
              <a:rect l="l" t="t" r="r" b="b"/>
              <a:pathLst>
                <a:path w="998" h="507">
                  <a:moveTo>
                    <a:pt x="0" y="0"/>
                  </a:moveTo>
                  <a:cubicBezTo>
                    <a:pt x="166" y="245"/>
                    <a:pt x="333" y="491"/>
                    <a:pt x="499" y="499"/>
                  </a:cubicBezTo>
                  <a:cubicBezTo>
                    <a:pt x="665" y="507"/>
                    <a:pt x="831" y="276"/>
                    <a:pt x="998" y="46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56280" y="2976120"/>
              <a:ext cx="58680" cy="6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93800" y="2976120"/>
              <a:ext cx="58680" cy="6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16000" y="343548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at all your points fit on the s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948360" y="3284640"/>
            <a:ext cx="432000" cy="431640"/>
            <a:chOff x="6948360" y="3284640"/>
            <a:chExt cx="432000" cy="431640"/>
          </a:xfrm>
        </p:grpSpPr>
        <p:sp>
          <p:nvSpPr>
            <p:cNvPr id="93" name=""/>
            <p:cNvSpPr/>
            <p:nvPr/>
          </p:nvSpPr>
          <p:spPr>
            <a:xfrm>
              <a:off x="6948360" y="328464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027200" y="3530160"/>
              <a:ext cx="274680" cy="82440"/>
            </a:xfrm>
            <a:custGeom>
              <a:avLst/>
              <a:gdLst/>
              <a:ahLst/>
              <a:rect l="l" t="t" r="r" b="b"/>
              <a:pathLst>
                <a:path w="998" h="507">
                  <a:moveTo>
                    <a:pt x="0" y="0"/>
                  </a:moveTo>
                  <a:cubicBezTo>
                    <a:pt x="166" y="245"/>
                    <a:pt x="333" y="491"/>
                    <a:pt x="499" y="499"/>
                  </a:cubicBezTo>
                  <a:cubicBezTo>
                    <a:pt x="665" y="507"/>
                    <a:pt x="831" y="276"/>
                    <a:pt x="998" y="46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66080" y="3407760"/>
              <a:ext cx="58680" cy="6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03600" y="3407760"/>
              <a:ext cx="58680" cy="6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572000" y="2421000"/>
            <a:ext cx="2448000" cy="3240000"/>
            <a:chOff x="4572000" y="2421000"/>
            <a:chExt cx="2448000" cy="3240000"/>
          </a:xfrm>
        </p:grpSpPr>
        <p:sp>
          <p:nvSpPr>
            <p:cNvPr id="98" name=""/>
            <p:cNvSpPr/>
            <p:nvPr/>
          </p:nvSpPr>
          <p:spPr>
            <a:xfrm>
              <a:off x="4572000" y="2997000"/>
              <a:ext cx="0" cy="26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5661000"/>
              <a:ext cx="244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9800" y="5300640"/>
              <a:ext cx="71280" cy="723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35640" y="4652640"/>
              <a:ext cx="71640" cy="727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75280" y="5013000"/>
              <a:ext cx="71640" cy="727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80360" y="4292280"/>
              <a:ext cx="71280" cy="727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83640" y="3139920"/>
              <a:ext cx="71280" cy="727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8720" y="2421000"/>
              <a:ext cx="71280" cy="727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2421000"/>
              <a:ext cx="71640" cy="727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79280" y="40258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and make the scales go up in easy numbers (like twos, fives or te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348000" y="2781360"/>
            <a:ext cx="4968720" cy="857520"/>
            <a:chOff x="3348000" y="2781360"/>
            <a:chExt cx="4968720" cy="857520"/>
          </a:xfrm>
        </p:grpSpPr>
        <p:sp>
          <p:nvSpPr>
            <p:cNvPr id="109" name=""/>
            <p:cNvSpPr/>
            <p:nvPr/>
          </p:nvSpPr>
          <p:spPr>
            <a:xfrm>
              <a:off x="4140000" y="335592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75280" y="335592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96000" y="3355920"/>
              <a:ext cx="68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61080" y="335592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88000" y="3355920"/>
              <a:ext cx="6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7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348000" y="2781360"/>
              <a:ext cx="4968720" cy="504720"/>
              <a:chOff x="3348000" y="2781360"/>
              <a:chExt cx="4968720" cy="504720"/>
            </a:xfrm>
          </p:grpSpPr>
          <p:sp>
            <p:nvSpPr>
              <p:cNvPr id="115" name=""/>
              <p:cNvSpPr/>
              <p:nvPr/>
            </p:nvSpPr>
            <p:spPr>
              <a:xfrm>
                <a:off x="3348000" y="278136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54200" y="278136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207400" y="278136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060600" y="278136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913800" y="278136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67000" y="278136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81520" y="2781360"/>
                <a:ext cx="0" cy="2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34720" y="2781360"/>
                <a:ext cx="0" cy="2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87920" y="2781360"/>
                <a:ext cx="0" cy="2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40760" y="2781360"/>
                <a:ext cx="0" cy="2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00640" y="278136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28320" y="2781360"/>
                <a:ext cx="0" cy="2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384360" y="336240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348000" y="4076640"/>
            <a:ext cx="4968720" cy="852840"/>
            <a:chOff x="3348000" y="4076640"/>
            <a:chExt cx="4968720" cy="852840"/>
          </a:xfrm>
        </p:grpSpPr>
        <p:sp>
          <p:nvSpPr>
            <p:cNvPr id="129" name=""/>
            <p:cNvSpPr/>
            <p:nvPr/>
          </p:nvSpPr>
          <p:spPr>
            <a:xfrm>
              <a:off x="4211640" y="465300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76720" y="465300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8560" y="4653000"/>
              <a:ext cx="5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32360" y="4653000"/>
              <a:ext cx="5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6000" y="465300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48000" y="465300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3348000" y="4076640"/>
              <a:ext cx="4968720" cy="504720"/>
              <a:chOff x="3348000" y="4076640"/>
              <a:chExt cx="4968720" cy="504720"/>
            </a:xfrm>
          </p:grpSpPr>
          <p:sp>
            <p:nvSpPr>
              <p:cNvPr id="136" name=""/>
              <p:cNvSpPr/>
              <p:nvPr/>
            </p:nvSpPr>
            <p:spPr>
              <a:xfrm>
                <a:off x="3348000" y="407664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54200" y="40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07400" y="40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60600" y="40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913800" y="40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767000" y="40766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781520" y="4076640"/>
                <a:ext cx="0" cy="2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4720" y="4076640"/>
                <a:ext cx="0" cy="2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87920" y="4076640"/>
                <a:ext cx="0" cy="2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40760" y="4076640"/>
                <a:ext cx="0" cy="2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00640" y="40766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928320" y="4076640"/>
                <a:ext cx="0" cy="2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8028000" y="4292640"/>
            <a:ext cx="431640" cy="431640"/>
            <a:chOff x="8028000" y="4292640"/>
            <a:chExt cx="431640" cy="431640"/>
          </a:xfrm>
        </p:grpSpPr>
        <p:sp>
          <p:nvSpPr>
            <p:cNvPr id="149" name=""/>
            <p:cNvSpPr/>
            <p:nvPr/>
          </p:nvSpPr>
          <p:spPr>
            <a:xfrm>
              <a:off x="8028000" y="429264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86680" y="4518720"/>
              <a:ext cx="314280" cy="123840"/>
            </a:xfrm>
            <a:custGeom>
              <a:avLst/>
              <a:gdLst/>
              <a:ahLst/>
              <a:rect l="l" t="t" r="r" b="b"/>
              <a:pathLst>
                <a:path w="998" h="507">
                  <a:moveTo>
                    <a:pt x="0" y="0"/>
                  </a:moveTo>
                  <a:cubicBezTo>
                    <a:pt x="166" y="245"/>
                    <a:pt x="333" y="491"/>
                    <a:pt x="499" y="499"/>
                  </a:cubicBezTo>
                  <a:cubicBezTo>
                    <a:pt x="665" y="507"/>
                    <a:pt x="831" y="276"/>
                    <a:pt x="998" y="46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45360" y="4415760"/>
              <a:ext cx="58680" cy="6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83240" y="4415760"/>
              <a:ext cx="58680" cy="6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028000" y="2924280"/>
            <a:ext cx="431640" cy="431640"/>
            <a:chOff x="8028000" y="2924280"/>
            <a:chExt cx="431640" cy="431640"/>
          </a:xfrm>
        </p:grpSpPr>
        <p:sp>
          <p:nvSpPr>
            <p:cNvPr id="154" name=""/>
            <p:cNvSpPr/>
            <p:nvPr/>
          </p:nvSpPr>
          <p:spPr>
            <a:xfrm>
              <a:off x="8028000" y="292428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8106480" y="3169800"/>
              <a:ext cx="274680" cy="82440"/>
            </a:xfrm>
            <a:custGeom>
              <a:avLst/>
              <a:gdLst/>
              <a:ahLst/>
              <a:rect l="l" t="t" r="r" b="b"/>
              <a:pathLst>
                <a:path w="998" h="507">
                  <a:moveTo>
                    <a:pt x="0" y="0"/>
                  </a:moveTo>
                  <a:cubicBezTo>
                    <a:pt x="166" y="245"/>
                    <a:pt x="333" y="491"/>
                    <a:pt x="499" y="499"/>
                  </a:cubicBezTo>
                  <a:cubicBezTo>
                    <a:pt x="665" y="507"/>
                    <a:pt x="831" y="276"/>
                    <a:pt x="998" y="46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45720" y="3047400"/>
              <a:ext cx="58680" cy="6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83240" y="3047400"/>
              <a:ext cx="58680" cy="6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796000" y="2133720"/>
            <a:ext cx="1655640" cy="57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68360" y="2060640"/>
            <a:ext cx="4535280" cy="42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24680" y="260280"/>
            <a:ext cx="40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ing a best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052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most common mistakes is joining the dots up one by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48360" y="2492280"/>
            <a:ext cx="35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ives a very uneven line and doesn’t really show if there is any pat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1557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and draw a smooth line near to as many points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55640" y="2276640"/>
            <a:ext cx="3384720" cy="3746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76720" y="3645000"/>
            <a:ext cx="37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ives a much clearer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55640" y="2349360"/>
            <a:ext cx="4103280" cy="3671640"/>
            <a:chOff x="755640" y="2349360"/>
            <a:chExt cx="4103280" cy="3671640"/>
          </a:xfrm>
        </p:grpSpPr>
        <p:sp>
          <p:nvSpPr>
            <p:cNvPr id="167" name=""/>
            <p:cNvSpPr/>
            <p:nvPr/>
          </p:nvSpPr>
          <p:spPr>
            <a:xfrm>
              <a:off x="755640" y="2349360"/>
              <a:ext cx="0" cy="36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5640" y="6021000"/>
              <a:ext cx="41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971280" y="2638440"/>
            <a:ext cx="2808360" cy="3166920"/>
            <a:chOff x="971280" y="2638440"/>
            <a:chExt cx="2808360" cy="3166920"/>
          </a:xfrm>
        </p:grpSpPr>
        <p:grpSp>
          <p:nvGrpSpPr>
            <p:cNvPr id="170" name=""/>
            <p:cNvGrpSpPr/>
            <p:nvPr/>
          </p:nvGrpSpPr>
          <p:grpSpPr>
            <a:xfrm>
              <a:off x="3634920" y="2638440"/>
              <a:ext cx="144720" cy="142920"/>
              <a:chOff x="3634920" y="2638440"/>
              <a:chExt cx="144720" cy="142920"/>
            </a:xfrm>
          </p:grpSpPr>
          <p:sp>
            <p:nvSpPr>
              <p:cNvPr id="171" name=""/>
              <p:cNvSpPr/>
              <p:nvPr/>
            </p:nvSpPr>
            <p:spPr>
              <a:xfrm flipH="1">
                <a:off x="3634920" y="26384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5280" y="26384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258560" y="5300640"/>
              <a:ext cx="144720" cy="142920"/>
              <a:chOff x="1258560" y="5300640"/>
              <a:chExt cx="144720" cy="142920"/>
            </a:xfrm>
          </p:grpSpPr>
          <p:sp>
            <p:nvSpPr>
              <p:cNvPr id="174" name=""/>
              <p:cNvSpPr/>
              <p:nvPr/>
            </p:nvSpPr>
            <p:spPr>
              <a:xfrm flipH="1">
                <a:off x="1258560" y="53006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58920" y="53006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906200" y="4726080"/>
              <a:ext cx="144720" cy="142920"/>
              <a:chOff x="1906200" y="4726080"/>
              <a:chExt cx="144720" cy="142920"/>
            </a:xfrm>
          </p:grpSpPr>
          <p:sp>
            <p:nvSpPr>
              <p:cNvPr id="177" name=""/>
              <p:cNvSpPr/>
              <p:nvPr/>
            </p:nvSpPr>
            <p:spPr>
              <a:xfrm flipH="1">
                <a:off x="1906200" y="472608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06560" y="472608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2410920" y="3935520"/>
              <a:ext cx="144720" cy="142920"/>
              <a:chOff x="2410920" y="3935520"/>
              <a:chExt cx="144720" cy="142920"/>
            </a:xfrm>
          </p:grpSpPr>
          <p:sp>
            <p:nvSpPr>
              <p:cNvPr id="180" name=""/>
              <p:cNvSpPr/>
              <p:nvPr/>
            </p:nvSpPr>
            <p:spPr>
              <a:xfrm flipH="1">
                <a:off x="2410920" y="393552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11280" y="393552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2771280" y="3789360"/>
              <a:ext cx="144720" cy="142920"/>
              <a:chOff x="2771280" y="3789360"/>
              <a:chExt cx="144720" cy="142920"/>
            </a:xfrm>
          </p:grpSpPr>
          <p:sp>
            <p:nvSpPr>
              <p:cNvPr id="183" name=""/>
              <p:cNvSpPr/>
              <p:nvPr/>
            </p:nvSpPr>
            <p:spPr>
              <a:xfrm flipH="1">
                <a:off x="2771280" y="37893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71640" y="37893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987280" y="3070080"/>
              <a:ext cx="144720" cy="142920"/>
              <a:chOff x="2987280" y="3070080"/>
              <a:chExt cx="144720" cy="142920"/>
            </a:xfrm>
          </p:grpSpPr>
          <p:sp>
            <p:nvSpPr>
              <p:cNvPr id="186" name=""/>
              <p:cNvSpPr/>
              <p:nvPr/>
            </p:nvSpPr>
            <p:spPr>
              <a:xfrm flipH="1">
                <a:off x="2987280" y="307008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87640" y="307008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71280" y="5662440"/>
              <a:ext cx="144720" cy="142920"/>
              <a:chOff x="971280" y="5662440"/>
              <a:chExt cx="144720" cy="14292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971280" y="56624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71640" y="56624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123640" y="4367160"/>
              <a:ext cx="144720" cy="142920"/>
              <a:chOff x="2123640" y="4367160"/>
              <a:chExt cx="144720" cy="142920"/>
            </a:xfrm>
          </p:grpSpPr>
          <p:sp>
            <p:nvSpPr>
              <p:cNvPr id="192" name=""/>
              <p:cNvSpPr/>
              <p:nvPr/>
            </p:nvSpPr>
            <p:spPr>
              <a:xfrm flipH="1">
                <a:off x="2123640" y="43671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124000" y="43671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 flipV="1">
            <a:off x="755640" y="5734080"/>
            <a:ext cx="2872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042920" y="5373360"/>
            <a:ext cx="2890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332000" y="4797000"/>
            <a:ext cx="64764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79640" y="4436640"/>
            <a:ext cx="216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195640" y="4005000"/>
            <a:ext cx="28872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84360" y="3860640"/>
            <a:ext cx="35892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43280" y="3141360"/>
            <a:ext cx="216000" cy="718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59280" y="2708280"/>
            <a:ext cx="649080" cy="4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132000" y="2205000"/>
            <a:ext cx="2880000" cy="3024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2205000"/>
            <a:ext cx="2879640" cy="3024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8000" y="2205000"/>
            <a:ext cx="2879640" cy="3024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08040" y="260280"/>
            <a:ext cx="61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bout drawing a best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1052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rawing a best fit line it is important to try and get the same number or points above the line as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24000" y="2997360"/>
            <a:ext cx="2447640" cy="20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54388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too 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06920" y="54388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too hi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30920" y="54388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just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348000" y="2491920"/>
            <a:ext cx="1944720" cy="2522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300720" y="2636640"/>
            <a:ext cx="2303640" cy="237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24000" y="2349360"/>
            <a:ext cx="2447640" cy="2663640"/>
            <a:chOff x="324000" y="2349360"/>
            <a:chExt cx="2447640" cy="2663640"/>
          </a:xfrm>
        </p:grpSpPr>
        <p:grpSp>
          <p:nvGrpSpPr>
            <p:cNvPr id="214" name=""/>
            <p:cNvGrpSpPr/>
            <p:nvPr/>
          </p:nvGrpSpPr>
          <p:grpSpPr>
            <a:xfrm>
              <a:off x="324000" y="2349360"/>
              <a:ext cx="2447640" cy="2663640"/>
              <a:chOff x="324000" y="2349360"/>
              <a:chExt cx="2447640" cy="2663640"/>
            </a:xfrm>
          </p:grpSpPr>
          <p:sp>
            <p:nvSpPr>
              <p:cNvPr id="215" name=""/>
              <p:cNvSpPr/>
              <p:nvPr/>
            </p:nvSpPr>
            <p:spPr>
              <a:xfrm>
                <a:off x="324000" y="2349360"/>
                <a:ext cx="0" cy="266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24000" y="5013000"/>
                <a:ext cx="24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68000" y="4725720"/>
              <a:ext cx="144720" cy="142920"/>
              <a:chOff x="468000" y="4725720"/>
              <a:chExt cx="144720" cy="142920"/>
            </a:xfrm>
          </p:grpSpPr>
          <p:sp>
            <p:nvSpPr>
              <p:cNvPr id="218" name=""/>
              <p:cNvSpPr/>
              <p:nvPr/>
            </p:nvSpPr>
            <p:spPr>
              <a:xfrm flipH="1">
                <a:off x="468000" y="472572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8360" y="472572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044360" y="4149360"/>
              <a:ext cx="144720" cy="142920"/>
              <a:chOff x="1044360" y="4149360"/>
              <a:chExt cx="144720" cy="142920"/>
            </a:xfrm>
          </p:grpSpPr>
          <p:sp>
            <p:nvSpPr>
              <p:cNvPr id="221" name=""/>
              <p:cNvSpPr/>
              <p:nvPr/>
            </p:nvSpPr>
            <p:spPr>
              <a:xfrm flipH="1">
                <a:off x="1044360" y="41493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044720" y="41493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260000" y="3717720"/>
              <a:ext cx="144720" cy="142920"/>
              <a:chOff x="1260000" y="3717720"/>
              <a:chExt cx="144720" cy="142920"/>
            </a:xfrm>
          </p:grpSpPr>
          <p:sp>
            <p:nvSpPr>
              <p:cNvPr id="224" name=""/>
              <p:cNvSpPr/>
              <p:nvPr/>
            </p:nvSpPr>
            <p:spPr>
              <a:xfrm flipH="1">
                <a:off x="1260000" y="371772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60360" y="371772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765080" y="3573360"/>
              <a:ext cx="144720" cy="142920"/>
              <a:chOff x="1765080" y="3573360"/>
              <a:chExt cx="144720" cy="142920"/>
            </a:xfrm>
          </p:grpSpPr>
          <p:sp>
            <p:nvSpPr>
              <p:cNvPr id="227" name=""/>
              <p:cNvSpPr/>
              <p:nvPr/>
            </p:nvSpPr>
            <p:spPr>
              <a:xfrm flipH="1">
                <a:off x="1765080" y="35733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65440" y="35733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908000" y="3214440"/>
              <a:ext cx="144720" cy="142920"/>
              <a:chOff x="1908000" y="3214440"/>
              <a:chExt cx="144720" cy="14292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908000" y="32144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08360" y="32144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339640" y="2781000"/>
              <a:ext cx="144720" cy="142920"/>
              <a:chOff x="2339640" y="2781000"/>
              <a:chExt cx="144720" cy="142920"/>
            </a:xfrm>
          </p:grpSpPr>
          <p:sp>
            <p:nvSpPr>
              <p:cNvPr id="233" name=""/>
              <p:cNvSpPr/>
              <p:nvPr/>
            </p:nvSpPr>
            <p:spPr>
              <a:xfrm flipH="1">
                <a:off x="2339640" y="278100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40000" y="278100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324000" y="2349360"/>
            <a:ext cx="2447640" cy="2663640"/>
            <a:chOff x="324000" y="2349360"/>
            <a:chExt cx="2447640" cy="2663640"/>
          </a:xfrm>
        </p:grpSpPr>
        <p:grpSp>
          <p:nvGrpSpPr>
            <p:cNvPr id="236" name=""/>
            <p:cNvGrpSpPr/>
            <p:nvPr/>
          </p:nvGrpSpPr>
          <p:grpSpPr>
            <a:xfrm>
              <a:off x="324000" y="2349360"/>
              <a:ext cx="2447640" cy="2663640"/>
              <a:chOff x="324000" y="2349360"/>
              <a:chExt cx="2447640" cy="2663640"/>
            </a:xfrm>
          </p:grpSpPr>
          <p:sp>
            <p:nvSpPr>
              <p:cNvPr id="237" name=""/>
              <p:cNvSpPr/>
              <p:nvPr/>
            </p:nvSpPr>
            <p:spPr>
              <a:xfrm>
                <a:off x="324000" y="2349360"/>
                <a:ext cx="0" cy="266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24000" y="5013000"/>
                <a:ext cx="24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468000" y="4725720"/>
              <a:ext cx="144720" cy="142920"/>
              <a:chOff x="468000" y="4725720"/>
              <a:chExt cx="144720" cy="14292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468000" y="472572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8360" y="472572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1044360" y="4149360"/>
              <a:ext cx="144720" cy="142920"/>
              <a:chOff x="1044360" y="4149360"/>
              <a:chExt cx="144720" cy="14292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1044360" y="41493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044720" y="41493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260000" y="3717720"/>
              <a:ext cx="144720" cy="142920"/>
              <a:chOff x="1260000" y="3717720"/>
              <a:chExt cx="144720" cy="142920"/>
            </a:xfrm>
          </p:grpSpPr>
          <p:sp>
            <p:nvSpPr>
              <p:cNvPr id="246" name=""/>
              <p:cNvSpPr/>
              <p:nvPr/>
            </p:nvSpPr>
            <p:spPr>
              <a:xfrm flipH="1">
                <a:off x="1260000" y="371772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60360" y="371772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765080" y="3573360"/>
              <a:ext cx="144720" cy="142920"/>
              <a:chOff x="1765080" y="3573360"/>
              <a:chExt cx="144720" cy="142920"/>
            </a:xfrm>
          </p:grpSpPr>
          <p:sp>
            <p:nvSpPr>
              <p:cNvPr id="249" name=""/>
              <p:cNvSpPr/>
              <p:nvPr/>
            </p:nvSpPr>
            <p:spPr>
              <a:xfrm flipH="1">
                <a:off x="1765080" y="35733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65440" y="35733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1908000" y="3214440"/>
              <a:ext cx="144720" cy="142920"/>
              <a:chOff x="1908000" y="3214440"/>
              <a:chExt cx="144720" cy="142920"/>
            </a:xfrm>
          </p:grpSpPr>
          <p:sp>
            <p:nvSpPr>
              <p:cNvPr id="252" name=""/>
              <p:cNvSpPr/>
              <p:nvPr/>
            </p:nvSpPr>
            <p:spPr>
              <a:xfrm flipH="1">
                <a:off x="1908000" y="32144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08360" y="32144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2339640" y="2781000"/>
              <a:ext cx="144720" cy="142920"/>
              <a:chOff x="2339640" y="2781000"/>
              <a:chExt cx="144720" cy="142920"/>
            </a:xfrm>
          </p:grpSpPr>
          <p:sp>
            <p:nvSpPr>
              <p:cNvPr id="255" name=""/>
              <p:cNvSpPr/>
              <p:nvPr/>
            </p:nvSpPr>
            <p:spPr>
              <a:xfrm flipH="1">
                <a:off x="2339640" y="278100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340000" y="278100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324000" y="2349360"/>
            <a:ext cx="2447640" cy="2663640"/>
            <a:chOff x="324000" y="2349360"/>
            <a:chExt cx="2447640" cy="2663640"/>
          </a:xfrm>
        </p:grpSpPr>
        <p:grpSp>
          <p:nvGrpSpPr>
            <p:cNvPr id="258" name=""/>
            <p:cNvGrpSpPr/>
            <p:nvPr/>
          </p:nvGrpSpPr>
          <p:grpSpPr>
            <a:xfrm>
              <a:off x="324000" y="2349360"/>
              <a:ext cx="2447640" cy="2663640"/>
              <a:chOff x="324000" y="2349360"/>
              <a:chExt cx="2447640" cy="2663640"/>
            </a:xfrm>
          </p:grpSpPr>
          <p:sp>
            <p:nvSpPr>
              <p:cNvPr id="259" name=""/>
              <p:cNvSpPr/>
              <p:nvPr/>
            </p:nvSpPr>
            <p:spPr>
              <a:xfrm>
                <a:off x="324000" y="2349360"/>
                <a:ext cx="0" cy="266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4000" y="5013000"/>
                <a:ext cx="24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68000" y="4725720"/>
              <a:ext cx="144720" cy="142920"/>
              <a:chOff x="468000" y="4725720"/>
              <a:chExt cx="144720" cy="14292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468000" y="472572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68360" y="472572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1044360" y="4149360"/>
              <a:ext cx="144720" cy="142920"/>
              <a:chOff x="1044360" y="4149360"/>
              <a:chExt cx="144720" cy="14292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1044360" y="41493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044720" y="41493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1260000" y="3717720"/>
              <a:ext cx="144720" cy="142920"/>
              <a:chOff x="1260000" y="3717720"/>
              <a:chExt cx="144720" cy="142920"/>
            </a:xfrm>
          </p:grpSpPr>
          <p:sp>
            <p:nvSpPr>
              <p:cNvPr id="268" name=""/>
              <p:cNvSpPr/>
              <p:nvPr/>
            </p:nvSpPr>
            <p:spPr>
              <a:xfrm flipH="1">
                <a:off x="1260000" y="371772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260360" y="371772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765080" y="3573360"/>
              <a:ext cx="144720" cy="142920"/>
              <a:chOff x="1765080" y="3573360"/>
              <a:chExt cx="144720" cy="142920"/>
            </a:xfrm>
          </p:grpSpPr>
          <p:sp>
            <p:nvSpPr>
              <p:cNvPr id="271" name=""/>
              <p:cNvSpPr/>
              <p:nvPr/>
            </p:nvSpPr>
            <p:spPr>
              <a:xfrm flipH="1">
                <a:off x="1765080" y="35733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65440" y="35733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1908000" y="3214440"/>
              <a:ext cx="144720" cy="142920"/>
              <a:chOff x="1908000" y="3214440"/>
              <a:chExt cx="144720" cy="142920"/>
            </a:xfrm>
          </p:grpSpPr>
          <p:sp>
            <p:nvSpPr>
              <p:cNvPr id="274" name=""/>
              <p:cNvSpPr/>
              <p:nvPr/>
            </p:nvSpPr>
            <p:spPr>
              <a:xfrm flipH="1">
                <a:off x="1908000" y="32144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08360" y="32144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339640" y="2781000"/>
              <a:ext cx="144720" cy="142920"/>
              <a:chOff x="2339640" y="2781000"/>
              <a:chExt cx="144720" cy="142920"/>
            </a:xfrm>
          </p:grpSpPr>
          <p:sp>
            <p:nvSpPr>
              <p:cNvPr id="277" name=""/>
              <p:cNvSpPr/>
              <p:nvPr/>
            </p:nvSpPr>
            <p:spPr>
              <a:xfrm flipH="1">
                <a:off x="2339640" y="278100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40000" y="278100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2268360" y="17002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ach of the graphs below are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6 2.11841E-006 L 0.65364 2.11841E-006 E">
                                      <p:cBhvr>
                                        <p:cTn id="26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6 -8.51064E-007 L 0.33073 -8.51064E-007 E">
                                      <p:cBhvr>
                                        <p:cTn id="262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643280" y="1630440"/>
            <a:ext cx="3600720" cy="3959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1280" y="1630440"/>
            <a:ext cx="3600360" cy="3959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70920" y="260280"/>
            <a:ext cx="71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more about drawing a best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60360" y="105264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ll best fit lines have to go through the origin (0,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003640" y="1917720"/>
            <a:ext cx="2160720" cy="2449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971640" y="1771560"/>
            <a:ext cx="1871640" cy="3602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44720" y="5661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ne goes through the origin but is not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971640" y="2060640"/>
            <a:ext cx="2880720" cy="3311280"/>
            <a:chOff x="971640" y="2060640"/>
            <a:chExt cx="2880720" cy="3311280"/>
          </a:xfrm>
        </p:grpSpPr>
        <p:grpSp>
          <p:nvGrpSpPr>
            <p:cNvPr id="288" name=""/>
            <p:cNvGrpSpPr/>
            <p:nvPr/>
          </p:nvGrpSpPr>
          <p:grpSpPr>
            <a:xfrm>
              <a:off x="971640" y="2132280"/>
              <a:ext cx="2880720" cy="3239640"/>
              <a:chOff x="971640" y="2132280"/>
              <a:chExt cx="2880720" cy="3239640"/>
            </a:xfrm>
          </p:grpSpPr>
          <p:sp>
            <p:nvSpPr>
              <p:cNvPr id="289" name=""/>
              <p:cNvSpPr/>
              <p:nvPr/>
            </p:nvSpPr>
            <p:spPr>
              <a:xfrm>
                <a:off x="971640" y="2132280"/>
                <a:ext cx="0" cy="323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71640" y="5371920"/>
                <a:ext cx="288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116000" y="4075200"/>
              <a:ext cx="144000" cy="142920"/>
              <a:chOff x="1116000" y="4075200"/>
              <a:chExt cx="144000" cy="14292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1116000" y="4075200"/>
                <a:ext cx="14400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16000" y="4075200"/>
                <a:ext cx="14400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549440" y="3573720"/>
              <a:ext cx="144000" cy="142920"/>
              <a:chOff x="1549440" y="3573720"/>
              <a:chExt cx="144000" cy="1429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1549440" y="3573720"/>
                <a:ext cx="14400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549440" y="3573720"/>
                <a:ext cx="14400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763640" y="3211560"/>
              <a:ext cx="144000" cy="142920"/>
              <a:chOff x="1763640" y="3211560"/>
              <a:chExt cx="144000" cy="142920"/>
            </a:xfrm>
          </p:grpSpPr>
          <p:sp>
            <p:nvSpPr>
              <p:cNvPr id="298" name=""/>
              <p:cNvSpPr/>
              <p:nvPr/>
            </p:nvSpPr>
            <p:spPr>
              <a:xfrm flipH="1">
                <a:off x="1763640" y="3211560"/>
                <a:ext cx="14400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63640" y="3211560"/>
                <a:ext cx="14400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124000" y="3068640"/>
              <a:ext cx="144000" cy="142920"/>
              <a:chOff x="2124000" y="3068640"/>
              <a:chExt cx="144000" cy="14292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2124000" y="3068640"/>
                <a:ext cx="14400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24000" y="3068640"/>
                <a:ext cx="14400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194920" y="2708280"/>
              <a:ext cx="144720" cy="142920"/>
              <a:chOff x="2194920" y="2708280"/>
              <a:chExt cx="144720" cy="142920"/>
            </a:xfrm>
          </p:grpSpPr>
          <p:sp>
            <p:nvSpPr>
              <p:cNvPr id="304" name=""/>
              <p:cNvSpPr/>
              <p:nvPr/>
            </p:nvSpPr>
            <p:spPr>
              <a:xfrm flipH="1">
                <a:off x="2194920" y="270828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95280" y="270828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485440" y="2492640"/>
              <a:ext cx="144720" cy="142920"/>
              <a:chOff x="2485440" y="2492640"/>
              <a:chExt cx="144720" cy="142920"/>
            </a:xfrm>
          </p:grpSpPr>
          <p:sp>
            <p:nvSpPr>
              <p:cNvPr id="307" name=""/>
              <p:cNvSpPr/>
              <p:nvPr/>
            </p:nvSpPr>
            <p:spPr>
              <a:xfrm flipH="1">
                <a:off x="2485440" y="24926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485800" y="24926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2843280" y="2060640"/>
              <a:ext cx="144000" cy="142920"/>
              <a:chOff x="2843280" y="2060640"/>
              <a:chExt cx="144000" cy="142920"/>
            </a:xfrm>
          </p:grpSpPr>
          <p:sp>
            <p:nvSpPr>
              <p:cNvPr id="310" name=""/>
              <p:cNvSpPr/>
              <p:nvPr/>
            </p:nvSpPr>
            <p:spPr>
              <a:xfrm flipH="1">
                <a:off x="2843280" y="2060640"/>
                <a:ext cx="14400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43280" y="2060640"/>
                <a:ext cx="14400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4967280" y="5661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uch better best fit line that doesn’t go through the ori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969840" y="2060640"/>
            <a:ext cx="2881080" cy="3311280"/>
            <a:chOff x="969840" y="2060640"/>
            <a:chExt cx="2881080" cy="3311280"/>
          </a:xfrm>
        </p:grpSpPr>
        <p:grpSp>
          <p:nvGrpSpPr>
            <p:cNvPr id="314" name=""/>
            <p:cNvGrpSpPr/>
            <p:nvPr/>
          </p:nvGrpSpPr>
          <p:grpSpPr>
            <a:xfrm>
              <a:off x="969840" y="2132280"/>
              <a:ext cx="2881080" cy="3239640"/>
              <a:chOff x="969840" y="2132280"/>
              <a:chExt cx="2881080" cy="3239640"/>
            </a:xfrm>
          </p:grpSpPr>
          <p:sp>
            <p:nvSpPr>
              <p:cNvPr id="315" name=""/>
              <p:cNvSpPr/>
              <p:nvPr/>
            </p:nvSpPr>
            <p:spPr>
              <a:xfrm>
                <a:off x="969840" y="2132280"/>
                <a:ext cx="0" cy="323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69840" y="5371920"/>
                <a:ext cx="28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1114200" y="4075200"/>
              <a:ext cx="144720" cy="142920"/>
              <a:chOff x="1114200" y="4075200"/>
              <a:chExt cx="144720" cy="142920"/>
            </a:xfrm>
          </p:grpSpPr>
          <p:sp>
            <p:nvSpPr>
              <p:cNvPr id="318" name=""/>
              <p:cNvSpPr/>
              <p:nvPr/>
            </p:nvSpPr>
            <p:spPr>
              <a:xfrm flipH="1">
                <a:off x="1114200" y="407520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114560" y="407520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547640" y="3573720"/>
              <a:ext cx="144720" cy="142920"/>
              <a:chOff x="1547640" y="3573720"/>
              <a:chExt cx="144720" cy="142920"/>
            </a:xfrm>
          </p:grpSpPr>
          <p:sp>
            <p:nvSpPr>
              <p:cNvPr id="321" name=""/>
              <p:cNvSpPr/>
              <p:nvPr/>
            </p:nvSpPr>
            <p:spPr>
              <a:xfrm flipH="1">
                <a:off x="1547640" y="357372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548000" y="357372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761840" y="3211560"/>
              <a:ext cx="144720" cy="142920"/>
              <a:chOff x="1761840" y="3211560"/>
              <a:chExt cx="144720" cy="14292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1761840" y="32115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62200" y="321156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2122200" y="3068640"/>
              <a:ext cx="144720" cy="142920"/>
              <a:chOff x="2122200" y="3068640"/>
              <a:chExt cx="144720" cy="142920"/>
            </a:xfrm>
          </p:grpSpPr>
          <p:sp>
            <p:nvSpPr>
              <p:cNvPr id="327" name=""/>
              <p:cNvSpPr/>
              <p:nvPr/>
            </p:nvSpPr>
            <p:spPr>
              <a:xfrm flipH="1">
                <a:off x="2122200" y="30686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122560" y="30686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2193480" y="2708280"/>
              <a:ext cx="144720" cy="142920"/>
              <a:chOff x="2193480" y="2708280"/>
              <a:chExt cx="144720" cy="142920"/>
            </a:xfrm>
          </p:grpSpPr>
          <p:sp>
            <p:nvSpPr>
              <p:cNvPr id="330" name=""/>
              <p:cNvSpPr/>
              <p:nvPr/>
            </p:nvSpPr>
            <p:spPr>
              <a:xfrm flipH="1">
                <a:off x="2193480" y="270828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193840" y="270828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2484000" y="2492640"/>
              <a:ext cx="144720" cy="142920"/>
              <a:chOff x="2484000" y="2492640"/>
              <a:chExt cx="144720" cy="142920"/>
            </a:xfrm>
          </p:grpSpPr>
          <p:sp>
            <p:nvSpPr>
              <p:cNvPr id="333" name=""/>
              <p:cNvSpPr/>
              <p:nvPr/>
            </p:nvSpPr>
            <p:spPr>
              <a:xfrm flipH="1">
                <a:off x="2484000" y="24926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484360" y="24926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2841480" y="2060640"/>
              <a:ext cx="144720" cy="142920"/>
              <a:chOff x="2841480" y="2060640"/>
              <a:chExt cx="144720" cy="1429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2841480" y="20606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841840" y="2060640"/>
                <a:ext cx="1443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2222E-006 3.14524E-006 L 0.44097 3.14524E-006 E">
                                      <p:cBhvr>
                                        <p:cTn id="311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619280" y="1773360"/>
            <a:ext cx="5040360" cy="446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195640" y="3428640"/>
            <a:ext cx="3816360" cy="2376360"/>
            <a:chOff x="2195640" y="3428640"/>
            <a:chExt cx="3816360" cy="2376360"/>
          </a:xfrm>
        </p:grpSpPr>
        <p:sp>
          <p:nvSpPr>
            <p:cNvPr id="340" name=""/>
            <p:cNvSpPr/>
            <p:nvPr/>
          </p:nvSpPr>
          <p:spPr>
            <a:xfrm flipV="1">
              <a:off x="2195640" y="3428640"/>
              <a:ext cx="1368360" cy="23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64000" y="3429000"/>
              <a:ext cx="244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195640" y="2637000"/>
            <a:ext cx="2663640" cy="30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96760" y="260280"/>
            <a:ext cx="37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t the best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76360" y="10526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ach of the cases below try and imagine where the best fit line will go before it app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195640" y="2205000"/>
            <a:ext cx="4103640" cy="3672000"/>
            <a:chOff x="2195640" y="2205000"/>
            <a:chExt cx="4103640" cy="3672000"/>
          </a:xfrm>
        </p:grpSpPr>
        <p:sp>
          <p:nvSpPr>
            <p:cNvPr id="346" name=""/>
            <p:cNvSpPr/>
            <p:nvPr/>
          </p:nvSpPr>
          <p:spPr>
            <a:xfrm>
              <a:off x="2195640" y="2205000"/>
              <a:ext cx="0" cy="36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95640" y="5877000"/>
              <a:ext cx="410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195640" y="2338560"/>
            <a:ext cx="3456000" cy="3538440"/>
          </a:xfrm>
          <a:custGeom>
            <a:avLst/>
            <a:gdLst/>
            <a:ahLst/>
            <a:rect l="l" t="t" r="r" b="b"/>
            <a:pathLst>
              <a:path w="2177" h="2229">
                <a:moveTo>
                  <a:pt x="0" y="2222"/>
                </a:moveTo>
                <a:cubicBezTo>
                  <a:pt x="499" y="2225"/>
                  <a:pt x="998" y="2229"/>
                  <a:pt x="1361" y="1859"/>
                </a:cubicBezTo>
                <a:cubicBezTo>
                  <a:pt x="1724" y="1489"/>
                  <a:pt x="1950" y="744"/>
                  <a:pt x="2177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23640" y="2565360"/>
            <a:ext cx="3529440" cy="3384720"/>
            <a:chOff x="2123640" y="2565360"/>
            <a:chExt cx="3529440" cy="3384720"/>
          </a:xfrm>
        </p:grpSpPr>
        <p:grpSp>
          <p:nvGrpSpPr>
            <p:cNvPr id="350" name=""/>
            <p:cNvGrpSpPr/>
            <p:nvPr/>
          </p:nvGrpSpPr>
          <p:grpSpPr>
            <a:xfrm>
              <a:off x="5508360" y="2565360"/>
              <a:ext cx="144720" cy="142920"/>
              <a:chOff x="5508360" y="2565360"/>
              <a:chExt cx="144720" cy="142920"/>
            </a:xfrm>
          </p:grpSpPr>
          <p:sp>
            <p:nvSpPr>
              <p:cNvPr id="351" name=""/>
              <p:cNvSpPr/>
              <p:nvPr/>
            </p:nvSpPr>
            <p:spPr>
              <a:xfrm flipH="1">
                <a:off x="5508360" y="256536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508720" y="256536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220720" y="3357720"/>
              <a:ext cx="144720" cy="142560"/>
              <a:chOff x="5220720" y="3357720"/>
              <a:chExt cx="144720" cy="142560"/>
            </a:xfrm>
          </p:grpSpPr>
          <p:sp>
            <p:nvSpPr>
              <p:cNvPr id="354" name=""/>
              <p:cNvSpPr/>
              <p:nvPr/>
            </p:nvSpPr>
            <p:spPr>
              <a:xfrm flipH="1">
                <a:off x="5220720" y="335772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221080" y="3357720"/>
                <a:ext cx="14436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005080" y="4006800"/>
              <a:ext cx="144720" cy="142920"/>
              <a:chOff x="5005080" y="4006800"/>
              <a:chExt cx="144720" cy="142920"/>
            </a:xfrm>
          </p:grpSpPr>
          <p:sp>
            <p:nvSpPr>
              <p:cNvPr id="357" name=""/>
              <p:cNvSpPr/>
              <p:nvPr/>
            </p:nvSpPr>
            <p:spPr>
              <a:xfrm flipH="1">
                <a:off x="5005080" y="40068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005440" y="40068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4500000" y="4941720"/>
              <a:ext cx="144720" cy="142920"/>
              <a:chOff x="4500000" y="4941720"/>
              <a:chExt cx="144720" cy="142920"/>
            </a:xfrm>
          </p:grpSpPr>
          <p:sp>
            <p:nvSpPr>
              <p:cNvPr id="360" name=""/>
              <p:cNvSpPr/>
              <p:nvPr/>
            </p:nvSpPr>
            <p:spPr>
              <a:xfrm flipH="1">
                <a:off x="4500000" y="494172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500360" y="494172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2123640" y="5807160"/>
              <a:ext cx="144720" cy="142920"/>
              <a:chOff x="2123640" y="5807160"/>
              <a:chExt cx="144720" cy="142920"/>
            </a:xfrm>
          </p:grpSpPr>
          <p:sp>
            <p:nvSpPr>
              <p:cNvPr id="363" name=""/>
              <p:cNvSpPr/>
              <p:nvPr/>
            </p:nvSpPr>
            <p:spPr>
              <a:xfrm flipH="1">
                <a:off x="2123640" y="580716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24000" y="580716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565080" y="5661000"/>
              <a:ext cx="144720" cy="142920"/>
              <a:chOff x="3565080" y="5661000"/>
              <a:chExt cx="144720" cy="142920"/>
            </a:xfrm>
          </p:grpSpPr>
          <p:sp>
            <p:nvSpPr>
              <p:cNvPr id="366" name=""/>
              <p:cNvSpPr/>
              <p:nvPr/>
            </p:nvSpPr>
            <p:spPr>
              <a:xfrm flipH="1">
                <a:off x="3565080" y="5661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565440" y="5661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4789080" y="4510080"/>
              <a:ext cx="144720" cy="142920"/>
              <a:chOff x="4789080" y="4510080"/>
              <a:chExt cx="144720" cy="142920"/>
            </a:xfrm>
          </p:grpSpPr>
          <p:sp>
            <p:nvSpPr>
              <p:cNvPr id="369" name=""/>
              <p:cNvSpPr/>
              <p:nvPr/>
            </p:nvSpPr>
            <p:spPr>
              <a:xfrm flipH="1">
                <a:off x="4789080" y="451008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89440" y="451008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4212720" y="5300640"/>
              <a:ext cx="144720" cy="142920"/>
              <a:chOff x="4212720" y="5300640"/>
              <a:chExt cx="144720" cy="142920"/>
            </a:xfrm>
          </p:grpSpPr>
          <p:sp>
            <p:nvSpPr>
              <p:cNvPr id="372" name=""/>
              <p:cNvSpPr/>
              <p:nvPr/>
            </p:nvSpPr>
            <p:spPr>
              <a:xfrm flipH="1">
                <a:off x="4212720" y="530064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13080" y="530064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"/>
          <p:cNvGrpSpPr/>
          <p:nvPr/>
        </p:nvGrpSpPr>
        <p:grpSpPr>
          <a:xfrm>
            <a:off x="2195280" y="2708280"/>
            <a:ext cx="2087280" cy="2374920"/>
            <a:chOff x="2195280" y="2708280"/>
            <a:chExt cx="2087280" cy="2374920"/>
          </a:xfrm>
        </p:grpSpPr>
        <p:grpSp>
          <p:nvGrpSpPr>
            <p:cNvPr id="375" name=""/>
            <p:cNvGrpSpPr/>
            <p:nvPr/>
          </p:nvGrpSpPr>
          <p:grpSpPr>
            <a:xfrm>
              <a:off x="2627280" y="3068640"/>
              <a:ext cx="144000" cy="142920"/>
              <a:chOff x="2627280" y="3068640"/>
              <a:chExt cx="144000" cy="142920"/>
            </a:xfrm>
          </p:grpSpPr>
          <p:sp>
            <p:nvSpPr>
              <p:cNvPr id="376" name=""/>
              <p:cNvSpPr/>
              <p:nvPr/>
            </p:nvSpPr>
            <p:spPr>
              <a:xfrm flipH="1">
                <a:off x="2627280" y="306864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627280" y="306864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138560" y="4940280"/>
              <a:ext cx="144000" cy="142920"/>
              <a:chOff x="4138560" y="4940280"/>
              <a:chExt cx="144000" cy="142920"/>
            </a:xfrm>
          </p:grpSpPr>
          <p:sp>
            <p:nvSpPr>
              <p:cNvPr id="379" name=""/>
              <p:cNvSpPr/>
              <p:nvPr/>
            </p:nvSpPr>
            <p:spPr>
              <a:xfrm flipH="1">
                <a:off x="4138560" y="494028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138560" y="494028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3851280" y="4437000"/>
              <a:ext cx="144000" cy="142920"/>
              <a:chOff x="3851280" y="4437000"/>
              <a:chExt cx="144000" cy="142920"/>
            </a:xfrm>
          </p:grpSpPr>
          <p:sp>
            <p:nvSpPr>
              <p:cNvPr id="382" name=""/>
              <p:cNvSpPr/>
              <p:nvPr/>
            </p:nvSpPr>
            <p:spPr>
              <a:xfrm flipH="1">
                <a:off x="3851280" y="443700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51280" y="443700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842560" y="3429000"/>
              <a:ext cx="144720" cy="142920"/>
              <a:chOff x="2842560" y="3429000"/>
              <a:chExt cx="144720" cy="142920"/>
            </a:xfrm>
          </p:grpSpPr>
          <p:sp>
            <p:nvSpPr>
              <p:cNvPr id="385" name=""/>
              <p:cNvSpPr/>
              <p:nvPr/>
            </p:nvSpPr>
            <p:spPr>
              <a:xfrm flipH="1">
                <a:off x="2842560" y="3429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842920" y="3429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3490920" y="4221360"/>
              <a:ext cx="144000" cy="142920"/>
              <a:chOff x="3490920" y="4221360"/>
              <a:chExt cx="144000" cy="14292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349092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49092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2195280" y="2708280"/>
              <a:ext cx="144720" cy="142920"/>
              <a:chOff x="2195280" y="2708280"/>
              <a:chExt cx="144720" cy="142920"/>
            </a:xfrm>
          </p:grpSpPr>
          <p:sp>
            <p:nvSpPr>
              <p:cNvPr id="391" name=""/>
              <p:cNvSpPr/>
              <p:nvPr/>
            </p:nvSpPr>
            <p:spPr>
              <a:xfrm flipH="1">
                <a:off x="2195280" y="270828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195640" y="270828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2338200" y="2779920"/>
              <a:ext cx="144000" cy="142920"/>
              <a:chOff x="2338200" y="2779920"/>
              <a:chExt cx="144000" cy="142920"/>
            </a:xfrm>
          </p:grpSpPr>
          <p:sp>
            <p:nvSpPr>
              <p:cNvPr id="394" name=""/>
              <p:cNvSpPr/>
              <p:nvPr/>
            </p:nvSpPr>
            <p:spPr>
              <a:xfrm flipH="1">
                <a:off x="2338200" y="277992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38200" y="277992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3202920" y="3716280"/>
              <a:ext cx="144720" cy="142920"/>
              <a:chOff x="3202920" y="3716280"/>
              <a:chExt cx="144720" cy="142920"/>
            </a:xfrm>
          </p:grpSpPr>
          <p:sp>
            <p:nvSpPr>
              <p:cNvPr id="397" name=""/>
              <p:cNvSpPr/>
              <p:nvPr/>
            </p:nvSpPr>
            <p:spPr>
              <a:xfrm flipH="1">
                <a:off x="3202920" y="371628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203280" y="371628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6732720" y="2133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fit lines can be cu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30920" y="458136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fit lines can go down as well as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32720" y="321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fit lines can change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410920" y="3357720"/>
            <a:ext cx="3529080" cy="2014560"/>
            <a:chOff x="2410920" y="3357720"/>
            <a:chExt cx="3529080" cy="2014560"/>
          </a:xfrm>
        </p:grpSpPr>
        <p:grpSp>
          <p:nvGrpSpPr>
            <p:cNvPr id="403" name=""/>
            <p:cNvGrpSpPr/>
            <p:nvPr/>
          </p:nvGrpSpPr>
          <p:grpSpPr>
            <a:xfrm>
              <a:off x="5147640" y="3357720"/>
              <a:ext cx="144720" cy="142920"/>
              <a:chOff x="5147640" y="3357720"/>
              <a:chExt cx="144720" cy="142920"/>
            </a:xfrm>
          </p:grpSpPr>
          <p:sp>
            <p:nvSpPr>
              <p:cNvPr id="404" name=""/>
              <p:cNvSpPr/>
              <p:nvPr/>
            </p:nvSpPr>
            <p:spPr>
              <a:xfrm flipH="1">
                <a:off x="5147640" y="335772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148000" y="335772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5795280" y="3357720"/>
              <a:ext cx="144720" cy="142920"/>
              <a:chOff x="5795280" y="3357720"/>
              <a:chExt cx="144720" cy="142920"/>
            </a:xfrm>
          </p:grpSpPr>
          <p:sp>
            <p:nvSpPr>
              <p:cNvPr id="407" name=""/>
              <p:cNvSpPr/>
              <p:nvPr/>
            </p:nvSpPr>
            <p:spPr>
              <a:xfrm flipH="1">
                <a:off x="5795280" y="335772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795640" y="335772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4426920" y="3357720"/>
              <a:ext cx="144720" cy="142920"/>
              <a:chOff x="4426920" y="3357720"/>
              <a:chExt cx="144720" cy="142920"/>
            </a:xfrm>
          </p:grpSpPr>
          <p:sp>
            <p:nvSpPr>
              <p:cNvPr id="410" name=""/>
              <p:cNvSpPr/>
              <p:nvPr/>
            </p:nvSpPr>
            <p:spPr>
              <a:xfrm flipH="1">
                <a:off x="4426920" y="335772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27280" y="335772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3274560" y="3789360"/>
              <a:ext cx="144720" cy="142920"/>
              <a:chOff x="3274560" y="3789360"/>
              <a:chExt cx="144720" cy="142920"/>
            </a:xfrm>
          </p:grpSpPr>
          <p:sp>
            <p:nvSpPr>
              <p:cNvPr id="413" name=""/>
              <p:cNvSpPr/>
              <p:nvPr/>
            </p:nvSpPr>
            <p:spPr>
              <a:xfrm flipH="1">
                <a:off x="3274560" y="378936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274920" y="378936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10920" y="5229360"/>
              <a:ext cx="144720" cy="142920"/>
              <a:chOff x="2410920" y="5229360"/>
              <a:chExt cx="144720" cy="14292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2410920" y="522936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11280" y="522936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922200" y="3357720"/>
              <a:ext cx="144720" cy="142920"/>
              <a:chOff x="3922200" y="3357720"/>
              <a:chExt cx="144720" cy="14292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3922200" y="335772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22560" y="335772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3490200" y="3357720"/>
              <a:ext cx="144720" cy="142920"/>
              <a:chOff x="3490200" y="3357720"/>
              <a:chExt cx="144720" cy="142920"/>
            </a:xfrm>
          </p:grpSpPr>
          <p:sp>
            <p:nvSpPr>
              <p:cNvPr id="422" name=""/>
              <p:cNvSpPr/>
              <p:nvPr/>
            </p:nvSpPr>
            <p:spPr>
              <a:xfrm flipH="1">
                <a:off x="3490200" y="335772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90560" y="335772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842560" y="4510080"/>
              <a:ext cx="144720" cy="142920"/>
              <a:chOff x="2842560" y="4510080"/>
              <a:chExt cx="144720" cy="142920"/>
            </a:xfrm>
          </p:grpSpPr>
          <p:sp>
            <p:nvSpPr>
              <p:cNvPr id="425" name=""/>
              <p:cNvSpPr/>
              <p:nvPr/>
            </p:nvSpPr>
            <p:spPr>
              <a:xfrm flipH="1">
                <a:off x="2842560" y="451008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842920" y="451008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5219640" y="3068640"/>
            <a:ext cx="3673440" cy="1800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920" y="1773360"/>
            <a:ext cx="4825800" cy="4535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55640" y="2421000"/>
            <a:ext cx="2664000" cy="30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506320" y="260280"/>
            <a:ext cx="415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ing the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16000" y="105264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is a pattern then it is important to try and describ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508720" y="3716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increases as B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292720" y="3213000"/>
            <a:ext cx="345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increases as B increases up to point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is point as B increases A does not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50920" y="2205000"/>
            <a:ext cx="4608360" cy="4113360"/>
            <a:chOff x="250920" y="2205000"/>
            <a:chExt cx="4608360" cy="4113360"/>
          </a:xfrm>
        </p:grpSpPr>
        <p:grpSp>
          <p:nvGrpSpPr>
            <p:cNvPr id="435" name=""/>
            <p:cNvGrpSpPr/>
            <p:nvPr/>
          </p:nvGrpSpPr>
          <p:grpSpPr>
            <a:xfrm>
              <a:off x="755640" y="2205000"/>
              <a:ext cx="4103640" cy="3672000"/>
              <a:chOff x="755640" y="2205000"/>
              <a:chExt cx="4103640" cy="3672000"/>
            </a:xfrm>
          </p:grpSpPr>
          <p:sp>
            <p:nvSpPr>
              <p:cNvPr id="436" name=""/>
              <p:cNvSpPr/>
              <p:nvPr/>
            </p:nvSpPr>
            <p:spPr>
              <a:xfrm>
                <a:off x="755640" y="2205000"/>
                <a:ext cx="0" cy="36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55640" y="5877000"/>
                <a:ext cx="410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250920" y="22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27640" y="5950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 flipV="1">
            <a:off x="755640" y="2924280"/>
            <a:ext cx="2376360" cy="295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08720" y="3716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creases as B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755640" y="3429000"/>
            <a:ext cx="3528720" cy="2448000"/>
            <a:chOff x="755640" y="3429000"/>
            <a:chExt cx="3528720" cy="2448000"/>
          </a:xfrm>
        </p:grpSpPr>
        <p:grpSp>
          <p:nvGrpSpPr>
            <p:cNvPr id="443" name=""/>
            <p:cNvGrpSpPr/>
            <p:nvPr/>
          </p:nvGrpSpPr>
          <p:grpSpPr>
            <a:xfrm>
              <a:off x="755640" y="3500280"/>
              <a:ext cx="3528720" cy="2376720"/>
              <a:chOff x="755640" y="3500280"/>
              <a:chExt cx="3528720" cy="2376720"/>
            </a:xfrm>
          </p:grpSpPr>
          <p:sp>
            <p:nvSpPr>
              <p:cNvPr id="444" name=""/>
              <p:cNvSpPr/>
              <p:nvPr/>
            </p:nvSpPr>
            <p:spPr>
              <a:xfrm flipV="1">
                <a:off x="755640" y="3500280"/>
                <a:ext cx="1265040" cy="237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020680" y="3500280"/>
                <a:ext cx="2263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953360" y="3429000"/>
              <a:ext cx="133200" cy="142920"/>
              <a:chOff x="1953360" y="3429000"/>
              <a:chExt cx="133200" cy="142920"/>
            </a:xfrm>
          </p:grpSpPr>
          <p:sp>
            <p:nvSpPr>
              <p:cNvPr id="447" name=""/>
              <p:cNvSpPr/>
              <p:nvPr/>
            </p:nvSpPr>
            <p:spPr>
              <a:xfrm flipH="1">
                <a:off x="1953360" y="3429000"/>
                <a:ext cx="1332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953360" y="3429000"/>
                <a:ext cx="1332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4:18:50Z</dcterms:created>
  <dc:creator>James de Winter</dc:creator>
  <dc:description/>
  <dc:language>en-US</dc:language>
  <cp:lastModifiedBy>James</cp:lastModifiedBy>
  <dcterms:modified xsi:type="dcterms:W3CDTF">2005-11-25T16:12:56Z</dcterms:modified>
  <cp:revision>33</cp:revision>
  <dc:subject/>
  <dc:title>Using graphs</dc:title>
</cp:coreProperties>
</file>